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wmf" ContentType="image/x-wmf"/>
  <Override PartName="/ppt/media/image5.jpeg" ContentType="image/jpeg"/>
  <Override PartName="/ppt/media/image13.wmf" ContentType="image/x-wmf"/>
  <Override PartName="/ppt/media/image10.jpeg" ContentType="image/jpe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8D18-DAB0-4D85-A58D-4EAF954F2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3DAE-B76F-41A9-BE54-BB3908B7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11FF-FF01-4FD2-A115-1877A285F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0EF9-5671-4128-8B37-E17496F5F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CB99-1729-4D82-977C-066A6FA7C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F6293-0774-491D-ABEB-FBB9E0EC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CD4F-95C1-4B22-A800-8EB8B267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00AF3-4405-4A92-B303-9EA683E4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FE3D-D121-4CCB-9718-0B5E7A7F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7D68-C6D1-4781-A4A0-C1CFB114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D0D6-5972-4C76-BFD2-AE4242C1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4AF2-94D9-40D5-8AF8-0EF4F545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385A-1050-4122-8318-EFF762B5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9C02-38C4-4262-BC1F-A9954F0D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BA2D-FC11-4AD0-8C53-61021B34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D185-A38A-4A28-AB47-44D79A8E3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22CD-046B-4E0C-88ED-D624E8579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C323-3EA4-42D9-A7FB-F8EFE4D0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5E7B-DE05-47A2-9CBC-EC3CA17F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552F-899F-4E06-BC35-83D1652B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47BD-1F27-43C8-9DCA-9F460520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F1BD-83DB-49DE-A818-85EBDD5B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64E0-19F1-4EB4-BF34-435F47B6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C285-1C99-4792-BD46-AF686985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6C56-2842-44D7-9654-524FEEEBEB5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DC07-B655-4ECC-8855-D54698302A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Verification Analysis of a Plug Assist Thermoformed Part through Computer Simulation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r   “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Virtual Thermoforming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Joined research initiative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el Tessier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MT Materials, In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rnard Hegeman,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KP, University of Stuttg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. Karel Kouba and Petr Novotny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ccufor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bri-Kal Cor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search objectiv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/quantify the effect of various plug materi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riction data for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ine material characterization for F-K’s HDPE materi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search Step 1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KP to produce force/displacement cur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select temperatur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ous plug materials (CMT and oth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ed strain rates (plug spee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0" y="1676520"/>
          <a:ext cx="9144000" cy="487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91440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1066680" y="4572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KP test fixture schema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aufb2" descr=""/>
          <p:cNvPicPr/>
          <p:nvPr/>
        </p:nvPicPr>
        <p:blipFill>
          <a:blip r:embed="rId1"/>
          <a:stretch/>
        </p:blipFill>
        <p:spPr>
          <a:xfrm>
            <a:off x="838080" y="3733920"/>
            <a:ext cx="1419480" cy="2070000"/>
          </a:xfrm>
          <a:prstGeom prst="rect">
            <a:avLst/>
          </a:prstGeom>
          <a:ln w="0">
            <a:noFill/>
          </a:ln>
        </p:spPr>
      </p:pic>
      <p:pic>
        <p:nvPicPr>
          <p:cNvPr id="118" name="aufb3" descr=""/>
          <p:cNvPicPr/>
          <p:nvPr/>
        </p:nvPicPr>
        <p:blipFill>
          <a:blip r:embed="rId2"/>
          <a:stretch/>
        </p:blipFill>
        <p:spPr>
          <a:xfrm>
            <a:off x="4419720" y="990720"/>
            <a:ext cx="3997080" cy="27320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514520" y="5018040"/>
            <a:ext cx="675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1019160"/>
            <a:ext cx="278784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08000"/>
                </a:solidFill>
                <a:latin typeface="Times New Roman"/>
              </a:rPr>
              <a:t>Technical 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808000"/>
                </a:solidFill>
                <a:latin typeface="Times New Roman"/>
              </a:rPr>
              <a:t>velocity up to 4 m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808000"/>
                </a:solidFill>
                <a:latin typeface="Times New Roman"/>
              </a:rPr>
              <a:t>temperature -80 to +250°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808000"/>
                </a:solidFill>
                <a:latin typeface="Times New Roman"/>
              </a:rPr>
              <a:t>maximum force 20 k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808000"/>
                </a:solidFill>
                <a:latin typeface="Times New Roman"/>
              </a:rPr>
              <a:t>draw depth of 120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75880" y="3838680"/>
            <a:ext cx="37069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08000"/>
                </a:solidFill>
                <a:latin typeface="Times New Roman"/>
              </a:rPr>
              <a:t>Measurement Performance:</a:t>
            </a:r>
            <a:r>
              <a:rPr b="0" lang="de-DE" sz="16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808000"/>
                </a:solidFill>
                <a:latin typeface="Times New Roman"/>
              </a:rPr>
              <a:t>specimen thickness 0.1- 5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808000"/>
                </a:solidFill>
                <a:latin typeface="Times New Roman"/>
              </a:rPr>
              <a:t>various clamping and plug di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808000"/>
                </a:solidFill>
                <a:latin typeface="Times New Roman"/>
              </a:rPr>
              <a:t>constant heating with circulating 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3636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Black"/>
              </a:rPr>
              <a:t>Thermoforming Equipment at IKP -</a:t>
            </a:r>
            <a:r>
              <a:rPr b="0" lang="de-DE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 Black"/>
              </a:rPr>
              <a:t>Universal Testing Machine MFL-Systems</a:t>
            </a:r>
            <a:r>
              <a:rPr b="0" lang="de-DE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tep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uform to convert data to K-BKZ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new model for HDPE mate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 to identify coefficient of fri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e: the experimental results published at ANTEC ‘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tep 3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bri-Kal to compare simulation using the new parameters to actual p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495680" y="3373560"/>
          <a:ext cx="4343400" cy="318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373560"/>
                    <a:ext cx="4343400" cy="31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38080" y="5335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al part vs. simulation using original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0" y="1828800"/>
          <a:ext cx="914400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9144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066680" y="45720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5335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al part vs. simulation using modified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0" y="1752480"/>
          <a:ext cx="914400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838080" y="22860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al part vs. new material, modified friction and temper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0" y="1752480"/>
          <a:ext cx="914400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73911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ground on simulation at Fabri-K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rent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separate material properties from the frictional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be the best method to determine friction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DPE was a more difficult material to determine friction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monstrated definite correlation between plug material and force/deformation curves as well as distrib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efficient of friction appears much higher than earlier thought (1.75 vs 1.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ore other options to obtain fric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iction data can then be combined with force/deformation curves to yield better material characteriza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MA friction dat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828800" y="1828800"/>
          <a:ext cx="6324480" cy="48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828800"/>
                    <a:ext cx="632448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anks to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el Tessi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nard Hegeman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. Koub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tr Novotn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ary Bry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rmoforming -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It’s all about distribu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8088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133720" y="2043000"/>
          <a:ext cx="6781680" cy="456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043000"/>
                    <a:ext cx="6781680" cy="45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actors Affecting Distribu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eet temperature (and temperature profi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formation (plug spe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f vacuum/air (ballooning,billow form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ug assist geomet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ug material properties (friction, thermal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Plug geometry is a big reason they refer to thermoforming as an art!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MVC-588F" descr=""/>
          <p:cNvPicPr/>
          <p:nvPr/>
        </p:nvPicPr>
        <p:blipFill>
          <a:blip r:embed="rId1"/>
          <a:srcRect l="0" t="6250" r="6249" b="0"/>
          <a:stretch/>
        </p:blipFill>
        <p:spPr>
          <a:xfrm>
            <a:off x="5029200" y="2959200"/>
            <a:ext cx="3962520" cy="3495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1752480" y="1752480"/>
          <a:ext cx="2667240" cy="1930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1752480"/>
                    <a:ext cx="2667240" cy="19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8" name="single%20plug" descr=""/>
          <p:cNvPicPr/>
          <p:nvPr/>
        </p:nvPicPr>
        <p:blipFill>
          <a:blip r:embed="rId4"/>
          <a:stretch/>
        </p:blipFill>
        <p:spPr>
          <a:xfrm>
            <a:off x="685800" y="419112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abri-Kal began using simulation softwa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ee last photo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:  Optimize plug shapes in the design st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nefi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developmen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development c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understanding/optim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xperience with Simula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k time to develop the “right” parame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rectionally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cellent visualization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od cause/effect with plug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48320" y="228600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2286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85800" y="4572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plug mod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plug mod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arch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we worked, we wanted to better understand  the effect of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erial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eratu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i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4T16:38:06Z</dcterms:created>
  <dc:creator>TBUSH</dc:creator>
  <dc:description/>
  <dc:language>en-US</dc:language>
  <cp:lastModifiedBy>TBUSH</cp:lastModifiedBy>
  <cp:lastPrinted>2002-09-12T13:36:15Z</cp:lastPrinted>
  <dcterms:modified xsi:type="dcterms:W3CDTF">2002-09-12T15:05:17Z</dcterms:modified>
  <cp:revision>23</cp:revision>
  <dc:subject/>
  <dc:title>Verification Analysis of a Plug Assist Thermoformed part through T-Sim computer simulation</dc:title>
</cp:coreProperties>
</file>